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2.png" ContentType="image/png"/>
  <Override PartName="/ppt/media/projctor.wav" ContentType="audio/x-wav"/>
  <Override PartName="/ppt/media/image21.png" ContentType="image/png"/>
  <Override PartName="/ppt/media/image3.png" ContentType="image/png"/>
  <Override PartName="/ppt/media/gunshot.wav" ContentType="audio/x-wav"/>
  <Override PartName="/ppt/media/image26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carbrake.wav" ContentType="audio/x-wav"/>
  <Override PartName="/ppt/media/image9.png" ContentType="image/png"/>
  <Override PartName="/ppt/media/image5.png" ContentType="image/png"/>
  <Override PartName="/ppt/media/whoosh.wav" ContentType="audio/x-wav"/>
  <Override PartName="/ppt/media/image28.jpeg" ContentType="image/jpeg"/>
  <Override PartName="/ppt/media/image12.png" ContentType="image/png"/>
  <Override PartName="/ppt/media/image2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27.png" ContentType="image/png"/>
  <Override PartName="/ppt/media/drumroll.wav" ContentType="audio/x-wav"/>
  <Override PartName="/ppt/media/image16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BC7-830A-405F-BDED-868DCEB3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01E-FC7E-4983-8440-D111707F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59A1-88AA-47A1-80BF-ABD0E0C9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550-5313-4892-8F60-2A42EEA2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7B1A-E2E4-4510-B7AB-30A934EC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6836-3524-4E6A-93E7-837BAFA2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E8FA-A6EE-4331-B6E7-C87F510D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5A97-A4E1-4CB9-87A4-DA713E24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3B0F-3757-49DE-AA69-85E3E5B6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F564-4D89-43D6-B6F7-0FFB07DF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8FC0-2110-4C93-B2D4-F03A6439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605-1EE3-48AC-B502-8A52DB9A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DB6D-42D2-4F3D-9E08-0B8F5C6C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7E3B-7D04-4274-A2A3-3D6CE627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FE0C-7082-4A8B-B1B9-D1FF839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AC09-3BEE-4BB6-B38E-67E024EB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8B5-4672-4BC2-A8FB-932BE9C5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C67-2F07-44A4-B8CA-CB166F0C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0FAA-DCFA-4AED-877E-25F07DF2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D9D-56F3-461A-BC58-B56DE427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98D-1DA0-4D0A-8E99-171C2113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426-48DB-444C-9071-F718E525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5968-B8CB-42C3-A865-8A01AD02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5B6-20E0-4659-B529-B7CD4DB0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3ACB-E46C-4F77-BDAA-B8EFD058B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C542-C60B-4647-9D65-989C8A7CEF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3733560"/>
            <a:ext cx="8915400" cy="1447560"/>
          </a:xfrm>
          <a:prstGeom prst="rect">
            <a:avLst/>
          </a:prstGeom>
          <a:noFill/>
          <a:ln w="0">
            <a:noFill/>
          </a:ln>
          <a:effectLst>
            <a:outerShdw dist="50760" dir="0" blurRad="0" rotWithShape="0">
              <a:srgbClr val="b7e7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300" spc="-1" strike="noStrike">
                <a:solidFill>
                  <a:srgbClr val="b7e7ff"/>
                </a:solidFill>
                <a:latin typeface="Arial"/>
              </a:rPr>
              <a:t>Părţi  de  vorbire</a:t>
            </a:r>
            <a:endParaRPr b="0" lang="en-US" sz="93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9080" y="15228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Arial"/>
              </a:rPr>
              <a:t>Bratocea Ciucaş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00800" y="617220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4880" y="3352320"/>
            <a:ext cx="4346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lângă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pe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şi  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52280"/>
            <a:ext cx="8763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cc6600"/>
                </a:solidFill>
                <a:latin typeface="Arial"/>
              </a:rPr>
              <a:t>Adaugă</a:t>
            </a:r>
            <a:r>
              <a:rPr b="0" lang="ro-RO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o-RO" sz="8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cc6600"/>
                </a:solidFill>
                <a:latin typeface="Arial"/>
              </a:rPr>
              <a:t>cuvinte  de  legătură</a:t>
            </a:r>
            <a:r>
              <a:rPr b="0" lang="ro-RO" sz="6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9400" y="152280"/>
            <a:ext cx="8842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99"/>
                </a:solidFill>
                <a:latin typeface="Arial"/>
              </a:rPr>
              <a:t>Tipuri  de  cuvinte</a:t>
            </a:r>
            <a:r>
              <a:rPr b="0" lang="ro-RO" sz="4400" spc="-1" strike="noStrike">
                <a:solidFill>
                  <a:srgbClr val="ffcc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ffcc00"/>
                </a:solidFill>
                <a:latin typeface="Arial"/>
              </a:rPr>
              <a:t>(după  ce  exprimă)</a:t>
            </a:r>
            <a:r>
              <a:rPr b="0" lang="ro-RO" sz="4400" spc="-1" strike="noStrike">
                <a:solidFill>
                  <a:srgbClr val="ffcc00"/>
                </a:solidFill>
                <a:latin typeface="Arial"/>
              </a:rPr>
              <a:t> :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219320"/>
            <a:ext cx="4651200" cy="4876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33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lucruri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fiinţe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însuşiri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6000" spc="-1" strike="noStrike">
                <a:solidFill>
                  <a:srgbClr val="ff3300"/>
                </a:solidFill>
                <a:latin typeface="Arial"/>
              </a:rPr>
              <a:t>fenomene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370560"/>
            <a:ext cx="917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cc00"/>
                </a:solidFill>
                <a:latin typeface="Arial"/>
              </a:rPr>
              <a:t>Pele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752480"/>
            <a:ext cx="4651200" cy="472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acţiuni 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nuner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3600" spc="-1" strike="noStrike">
                <a:solidFill>
                  <a:srgbClr val="ff3300"/>
                </a:solidFill>
                <a:latin typeface="Arial"/>
              </a:rPr>
              <a:t>înlocuiesc  nume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ff3300"/>
                </a:solidFill>
                <a:latin typeface="Arial"/>
              </a:rPr>
              <a:t>cuvinte  de  legătură</a:t>
            </a:r>
            <a:r>
              <a:rPr b="0" lang="ro-RO" sz="7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4727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cc00"/>
                </a:solidFill>
                <a:latin typeface="Arial"/>
              </a:rPr>
              <a:t>Cuvintele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276720"/>
            <a:ext cx="472752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cc00"/>
                </a:solidFill>
                <a:latin typeface="Arial"/>
              </a:rPr>
              <a:t>Cuvintel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9250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fac  parte  din  vorbirea  noastră 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sunt  părţi  de  vorbire 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8610480" cy="16002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9933"/>
                </a:solidFill>
                <a:latin typeface="Arial"/>
              </a:rPr>
              <a:t>Adaugă  cuvinte  care  denumesc</a:t>
            </a:r>
            <a:r>
              <a:rPr b="0" lang="ro-RO" sz="8000" spc="-1" strike="noStrike">
                <a:solidFill>
                  <a:srgbClr val="ff9933"/>
                </a:solidFill>
                <a:latin typeface="Arial"/>
              </a:rPr>
              <a:t>  lucruri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320" y="754200"/>
            <a:ext cx="3124080" cy="2190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010280" y="2971800"/>
            <a:ext cx="142236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553080" y="914400"/>
            <a:ext cx="2210040" cy="1793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52280" y="4495680"/>
            <a:ext cx="177804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905120" y="3962520"/>
            <a:ext cx="1635120" cy="1676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2895480" y="5278320"/>
            <a:ext cx="2362320" cy="1427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5337000" y="4648320"/>
            <a:ext cx="1597320" cy="2133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3962520" y="2133720"/>
            <a:ext cx="2819160" cy="267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7078680" y="5342040"/>
            <a:ext cx="1989000" cy="1439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1522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336600"/>
                </a:solidFill>
                <a:latin typeface="Arial"/>
              </a:rPr>
              <a:t>Adaugă  cuvinte  care  denumesc</a:t>
            </a:r>
            <a:r>
              <a:rPr b="0" lang="ro-RO" sz="9600" spc="-1" strike="noStrike">
                <a:solidFill>
                  <a:srgbClr val="336600"/>
                </a:solidFill>
                <a:latin typeface="Arial"/>
              </a:rPr>
              <a:t>  fiinţe 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2283120" cy="3200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00400" y="1998720"/>
            <a:ext cx="4191120" cy="35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934320" y="914400"/>
            <a:ext cx="2057400" cy="2031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52280" y="914400"/>
            <a:ext cx="1650960" cy="3733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77080" y="39625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895480" y="4648320"/>
            <a:ext cx="3886200" cy="2130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1680" y="2437920"/>
            <a:ext cx="6632640" cy="366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5c5ff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9900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009900"/>
                </a:solidFill>
                <a:latin typeface="Arial"/>
              </a:rPr>
              <a:t>verd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ff66ff"/>
                </a:solidFill>
                <a:latin typeface="Arial"/>
              </a:rPr>
              <a:t>scu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66ff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ee941c"/>
                </a:solidFill>
                <a:latin typeface="Arial"/>
              </a:rPr>
              <a:t>inteligen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ee941c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cc6600"/>
                </a:solidFill>
                <a:latin typeface="Arial"/>
              </a:rPr>
              <a:t>înflorit</a:t>
            </a:r>
            <a:r>
              <a:rPr b="0" lang="ro-RO" sz="6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76320"/>
            <a:ext cx="7848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3300"/>
                </a:solidFill>
                <a:latin typeface="Arial"/>
              </a:rPr>
              <a:t>Adaugă  cuvinte  care  arată</a:t>
            </a:r>
            <a:r>
              <a:rPr b="0" lang="ro-RO" sz="8000" spc="-1" strike="noStrike">
                <a:solidFill>
                  <a:srgbClr val="ff3300"/>
                </a:solidFill>
                <a:latin typeface="Arial"/>
              </a:rPr>
              <a:t>  însuşiri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657600"/>
            <a:ext cx="8815680" cy="2743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ccffc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200" spc="-1" strike="noStrike">
                <a:solidFill>
                  <a:srgbClr val="17ffc2"/>
                </a:solidFill>
                <a:latin typeface="Arial"/>
              </a:rPr>
              <a:t>tornade</a:t>
            </a:r>
            <a:r>
              <a:rPr b="0" lang="ro-RO" sz="8000" spc="-1" strike="noStrike">
                <a:solidFill>
                  <a:srgbClr val="17ffc2"/>
                </a:solidFill>
                <a:latin typeface="Arial"/>
              </a:rPr>
              <a:t>, </a:t>
            </a:r>
            <a:r>
              <a:rPr b="0" lang="ro-RO" sz="8200" spc="-1" strike="noStrike">
                <a:solidFill>
                  <a:srgbClr val="996633"/>
                </a:solidFill>
                <a:latin typeface="Arial"/>
              </a:rPr>
              <a:t>ninsoare</a:t>
            </a:r>
            <a:r>
              <a:rPr b="0" lang="ro-RO" sz="8000" spc="-1" strike="noStrike">
                <a:solidFill>
                  <a:srgbClr val="996633"/>
                </a:solidFill>
                <a:latin typeface="Arial"/>
              </a:rPr>
              <a:t>,  </a:t>
            </a:r>
            <a:r>
              <a:rPr b="0" lang="ro-RO" sz="8400" spc="-1" strike="noStrike">
                <a:solidFill>
                  <a:srgbClr val="ff66ff"/>
                </a:solidFill>
                <a:latin typeface="Arial"/>
              </a:rPr>
              <a:t>nori</a:t>
            </a:r>
            <a:r>
              <a:rPr b="0" lang="ro-RO" sz="8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ro-RO" sz="8000" spc="-1" strike="noStrike">
                <a:solidFill>
                  <a:srgbClr val="ff3300"/>
                </a:solidFill>
                <a:latin typeface="Arial"/>
              </a:rPr>
              <a:t>…</a:t>
            </a:r>
            <a:r>
              <a:rPr b="0" lang="ro-RO" sz="96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8763120" cy="2286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6600"/>
                </a:solidFill>
                <a:latin typeface="Arial"/>
              </a:rPr>
              <a:t>Adaugă  cuvinte  care  denumesc</a:t>
            </a:r>
            <a:r>
              <a:rPr b="0" lang="ro-RO" sz="80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ro-RO" sz="6600" spc="-1" strike="noStrike">
                <a:solidFill>
                  <a:srgbClr val="336600"/>
                </a:solidFill>
                <a:latin typeface="Arial"/>
              </a:rPr>
              <a:t>fenomene  ale  naturii</a:t>
            </a:r>
            <a:r>
              <a:rPr b="0" lang="ro-RO" sz="8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51160" y="2057400"/>
            <a:ext cx="271008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52280" y="380880"/>
            <a:ext cx="2335320" cy="3673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2280" y="15228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00ff"/>
                </a:solidFill>
                <a:latin typeface="Arial"/>
              </a:rPr>
              <a:t>Adaugă  cuvinte  care  exprimă</a:t>
            </a:r>
            <a:r>
              <a:rPr b="0" lang="ro-RO" sz="8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lang="ro-RO" sz="72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ro-RO" sz="9600" spc="-1" strike="noStrike">
                <a:solidFill>
                  <a:srgbClr val="ff00ff"/>
                </a:solidFill>
                <a:latin typeface="Arial"/>
              </a:rPr>
              <a:t>acţiuni</a:t>
            </a:r>
            <a:r>
              <a:rPr b="0" lang="ro-RO" sz="8800" spc="-1" strike="noStrike">
                <a:solidFill>
                  <a:srgbClr val="ff00ff"/>
                </a:solidFill>
                <a:latin typeface="Arial"/>
              </a:rPr>
              <a:t> 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551560" y="533520"/>
            <a:ext cx="3417840" cy="49528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04920" y="3886200"/>
            <a:ext cx="3200400" cy="287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3505320" y="5029200"/>
            <a:ext cx="2133360" cy="1379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>
            <a:lum bright="6000"/>
          </a:blip>
          <a:stretch/>
        </p:blipFill>
        <p:spPr>
          <a:xfrm>
            <a:off x="6934320" y="5477040"/>
            <a:ext cx="182880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39760" y="3276720"/>
            <a:ext cx="663264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tu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dânsul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5400" spc="-1" strike="noStrike">
                <a:solidFill>
                  <a:srgbClr val="ffffff"/>
                </a:solidFill>
                <a:latin typeface="Arial"/>
              </a:rPr>
              <a:t>dumneavoastră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52280"/>
            <a:ext cx="8839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660066"/>
                </a:solidFill>
                <a:latin typeface="Arial"/>
              </a:rPr>
              <a:t>Adaugă  cuvinte  care  </a:t>
            </a:r>
            <a:r>
              <a:rPr b="0" lang="ro-RO" sz="88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0" lang="ro-RO" sz="7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o-RO" sz="7800" spc="-1" strike="noStrike">
                <a:solidFill>
                  <a:srgbClr val="660066"/>
                </a:solidFill>
                <a:latin typeface="Arial"/>
              </a:rPr>
              <a:t>înlocuiesc  nume.</a:t>
            </a:r>
            <a:endParaRPr b="0" lang="en-US" sz="7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15228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cc6600"/>
                </a:solidFill>
                <a:latin typeface="Arial"/>
              </a:rPr>
              <a:t>Adaugă  cuvinte  care   indică </a:t>
            </a:r>
            <a:r>
              <a:rPr b="0" lang="ro-RO" sz="96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0" lang="ro-RO" sz="8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ro-RO" sz="9600" spc="-1" strike="noStrike">
                <a:solidFill>
                  <a:srgbClr val="cc6600"/>
                </a:solidFill>
                <a:latin typeface="Arial"/>
              </a:rPr>
              <a:t>numere</a:t>
            </a:r>
            <a:r>
              <a:rPr b="0" lang="ro-RO" sz="8800" spc="-1" strike="noStrike">
                <a:solidFill>
                  <a:srgbClr val="cc6600"/>
                </a:solidFill>
                <a:latin typeface="Arial"/>
              </a:rPr>
              <a:t> 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2517480" cy="2971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809880" y="2736720"/>
            <a:ext cx="2530440" cy="396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7086600" y="3657600"/>
            <a:ext cx="1828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cc6600"/>
                </a:solidFill>
                <a:latin typeface="Arial Black"/>
              </a:rPr>
              <a:t>23 000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cc66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10:21:31Z</dcterms:created>
  <dc:creator>Adina Livia</dc:creator>
  <dc:description/>
  <dc:language>en-US</dc:language>
  <cp:lastModifiedBy>IULIA</cp:lastModifiedBy>
  <dcterms:modified xsi:type="dcterms:W3CDTF">2009-09-21T14:57:35Z</dcterms:modified>
  <cp:revision>53</cp:revision>
  <dc:subject/>
  <dc:title>parte  de  vorbire</dc:title>
</cp:coreProperties>
</file>